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1D7C-FA05-4A8B-9D56-64F82B2A4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98640" y="539640"/>
            <a:ext cx="4860720" cy="3645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fferent emphases of the Content Standards across the gr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A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the different emphases of the Content Standards across the grade-bands.  For example, at the Pre-K-2 level, Number and Operations receives much more emphasis than Algebra but Algebra receives more attention in 9-12 than Number and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meant only to be suggestive;  much of an instructional program may integrate the various Standards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POINTS FOR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Mathematics is integrated through the Standards (se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nciples and Standar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. 31 for discussion.)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nciples and Standar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F73-0D10-466E-B05F-762FAF5A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A89-B749-4791-86DC-9BF4B7B6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EA9-EFC5-4728-8CF3-82AA1849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EEA-3927-4F3E-ABC0-1B3272F0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48A-A792-4872-9FD1-AE85B27A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61C-D5CF-4F9A-B338-800D056C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4D1-A96C-4626-9365-2EC1DD25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D3E-EEFF-4EFC-B5AE-EBD1C7CC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039-FBA4-4180-B19C-A6397674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165-F0E0-4CC3-9312-97C68C67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5D3-702E-431D-8783-653776ED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12B-F9DF-4463-8C4B-3D398FF3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6090-2484-4B1B-AB28-F16162C8F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phasis Across the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163512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429000"/>
            <a:ext cx="1193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2670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029200"/>
            <a:ext cx="1841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715000"/>
            <a:ext cx="201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nalysis and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133720"/>
            <a:ext cx="129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K–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133720"/>
            <a:ext cx="90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–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133720"/>
            <a:ext cx="90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–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2133720"/>
            <a:ext cx="90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–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382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al- Model-Symbol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666880" y="2286000"/>
          <a:ext cx="44960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86000"/>
                    <a:ext cx="4496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86200" y="1981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952880"/>
            <a:ext cx="2286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876920"/>
            <a:ext cx="198108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and Or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352680" y="2743200"/>
            <a:ext cx="762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87440" y="5180760"/>
            <a:ext cx="1503000" cy="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852160" y="2768400"/>
            <a:ext cx="716400" cy="1321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7:43:10Z</dcterms:created>
  <dc:creator>Bonnie Gabriel</dc:creator>
  <dc:description/>
  <dc:language>en-US</dc:language>
  <cp:lastModifiedBy>Bonnie Gabriel</cp:lastModifiedBy>
  <dcterms:modified xsi:type="dcterms:W3CDTF">2005-03-02T17:47:08Z</dcterms:modified>
  <cp:revision>1</cp:revision>
  <dc:subject/>
  <dc:title>Emphasis Across the Grades</dc:title>
</cp:coreProperties>
</file>